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453-805D-4260-991A-F4821227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458-58C0-4342-A940-B9EDCE8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CF1-7780-4F57-AD73-1EC0595C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B85-A878-412D-904B-9F5C090F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B47-FD63-4B34-A3D3-0EF46343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5FF-CF45-445F-B588-AFC58D26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0028-1ABC-4539-9EC6-A1251BD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D968-D880-4E4C-8117-31EF087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D72-2379-41AC-AB12-70B9CE5C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C04E-BCD6-4CB4-A196-A1222234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EA0-2E91-4899-8903-5D5ED97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3A8-B8D1-4D33-9E37-21DBA6D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AD0-D3D2-4743-A851-C823300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A92B-6EFA-46DB-B17C-A71EAE1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6414-96D9-46B0-B5D0-BAA1B45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21DB-5D7E-4EFD-BDE3-D767A7DD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714-8208-4A8E-A5C5-29640B77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969-2949-4EFA-8D50-2A1E4856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F82-13E1-410B-855E-86A90FE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06E-23C6-45CA-A168-23ABA82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594-79E5-473B-8BA8-51E10D2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0ED-4675-4BE0-9B81-5D9BDC8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61B-6006-43E3-9462-5B405AD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6A3-FCF4-4B29-B36B-55A6138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A01-4453-4F5D-AD45-6F0025E7C6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2ED-2B68-46AA-ABB1-C51B6934D5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reshman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560" y="58669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3526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OVERALL GOALS OF ADVISORY PERI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lan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Testing Strateg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AT &amp; AIMS Prepa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Plan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ty Service Projec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e School Spiri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shmen Transi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on Civic Responsibil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Portfol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WHAT IS THE PURPOSE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OF ADVISORY PERIO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46880" y="2971800"/>
            <a:ext cx="3189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Freshman Focus: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WELCOME TO H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O HS BASIC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do I belong?  (clubs,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 go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manage my ti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stud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help my commun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0-06-03T19:04:42Z</dcterms:modified>
  <cp:revision>9</cp:revision>
  <dc:subject/>
  <dc:title>Sophomore Class </dc:title>
</cp:coreProperties>
</file>